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C0A6-AB86-4C37-AB0F-CB8B14D6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08D8-1FE4-4F89-91C1-14A52A80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A569-D777-4BE3-8A96-25D88A1A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BFC-9ECE-46B8-86D8-BA7F4CAA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4C13-848E-4D0C-98E8-9FDFD97E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C492-3976-49AD-8591-00A3E669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A75-441F-4C76-A0BE-32A6ED61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0CF0-8113-43EA-ADC4-64021619A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FC28-EF83-4EC4-B403-09F2DE8C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A85A-C29B-4377-84AB-0B755626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3AF0-0254-4D8A-BE6C-BF0F217A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D8B3-C9F0-4DFF-B577-433B988C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397A-8FC5-4298-A9A7-8B58FCCDE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co.nz/imgres?imgurl=http://www.glamourcases.co.nz/i/Brush%2520Belt/Brush_Belt_Hot_Pink_with_brushes.jpg&amp;imgrefurl=http://www.glamourcases.co.nz/catalog/item/7289142/7551926.htm&amp;usg=__JshZpeG3qzEvcn2x7twO4mW0GcE=&amp;h=407&amp;w=640&amp;sz=152&amp;hl=en&amp;start=38&amp;zoom=0&amp;itbs=1&amp;tbnid=uFLRUBq3qHvazM:&amp;tbnh=87&amp;tbnw=137&amp;prev=/images%3Fq%3Dpink%2Bbrushes%26start%3D21%26hl%3Den%26safe%3Dactive%26sa%3DN%26gbv%3D2%26ndsp%3D21%26tbs%3Disch: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1484280"/>
            <a:ext cx="309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9999"/>
                </a:solidFill>
                <a:latin typeface="Arial Rounded MT Bold"/>
              </a:rPr>
              <a:t>Pret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3284640"/>
            <a:ext cx="56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000000"/>
                </a:solidFill>
                <a:latin typeface="Arial Rounded MT Bold"/>
              </a:rPr>
              <a:t>P</a:t>
            </a:r>
            <a:r>
              <a:rPr b="0" lang="en-NZ" sz="9600" spc="-1" strike="noStrike">
                <a:solidFill>
                  <a:srgbClr val="bbe0e3"/>
                </a:solidFill>
                <a:latin typeface="Arial Rounded MT Bold"/>
              </a:rPr>
              <a:t>A</a:t>
            </a:r>
            <a:r>
              <a:rPr b="0" lang="en-NZ" sz="9600" spc="-1" strike="noStrike">
                <a:solidFill>
                  <a:srgbClr val="000000"/>
                </a:solidFill>
                <a:latin typeface="Arial Rounded MT Bold"/>
              </a:rPr>
              <a:t>N</a:t>
            </a:r>
            <a:r>
              <a:rPr b="0" lang="en-NZ" sz="9600" spc="-1" strike="noStrike">
                <a:solidFill>
                  <a:srgbClr val="bbe0e3"/>
                </a:solidFill>
                <a:latin typeface="Arial Rounded MT Bold"/>
              </a:rPr>
              <a:t>D</a:t>
            </a:r>
            <a:r>
              <a:rPr b="0" lang="en-NZ" sz="9600" spc="-1" strike="noStrike">
                <a:solidFill>
                  <a:srgbClr val="000000"/>
                </a:solidFill>
                <a:latin typeface="Arial Rounded MT Bold"/>
              </a:rPr>
              <a:t>A</a:t>
            </a:r>
            <a:r>
              <a:rPr b="0" lang="en-NZ" sz="9600" spc="-1" strike="noStrike">
                <a:solidFill>
                  <a:srgbClr val="bbe0e3"/>
                </a:solidFill>
                <a:latin typeface="Arial Rounded MT Bold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51280" y="1413000"/>
            <a:ext cx="3168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848720" y="-223920"/>
            <a:ext cx="129528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808080"/>
                </a:solidFill>
                <a:latin typeface="Arial Rounded MT Bold"/>
              </a:rPr>
              <a:t>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 Rounded MT Bold"/>
              </a:rPr>
              <a:t>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808080"/>
                </a:solidFill>
                <a:latin typeface="Arial Rounded MT Bold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000000"/>
                </a:solidFill>
                <a:latin typeface="Arial Rounded MT Bold"/>
              </a:rPr>
              <a:t>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765000"/>
            <a:ext cx="4681440" cy="2213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87280" y="5013360"/>
            <a:ext cx="3745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5229360"/>
            <a:ext cx="252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 Rounded MT Bold"/>
              </a:rPr>
              <a:t>By Joshu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1916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333399"/>
                </a:solidFill>
                <a:latin typeface="comic"/>
              </a:rPr>
              <a:t>Play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84360" y="2421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comic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1916280"/>
            <a:ext cx="18000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27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9999"/>
                </a:solidFill>
                <a:latin typeface="Showcard Gothic"/>
              </a:rPr>
              <a:t>pai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144000" y="3573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 Unicode MS"/>
              </a:rPr>
              <a:t>Pogo st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977080" y="5516640"/>
            <a:ext cx="59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Berlin Sans FB Demi"/>
              </a:rPr>
              <a:t>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8000" y="4005360"/>
            <a:ext cx="20955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path" presetID="4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472 1.85185E-006 C 0.31805 -0.01088 0.26267 -0.02176 0.2434 -0.02176 C 0.11996 -0.02176 -0.00643 0.15069 -0.00643 0.32338 C -0.00643 0.23611 -0.07049 0.15069 -0.13021 0.15069 C -0.19358 0.15069 -0.25313 0.23773 -0.25313 0.32338 C -0.25313 0.28032 -0.28525 0.23611 -0.31684 0.23611 C -0.34844 0.23611 -0.38021 0.27916 -0.38021 0.32338 C -0.38021 0.30116 -0.39584 0.28032 -0.41181 0.28032 C -0.42796 0.28032 -0.44341 0.30231 -0.44341 0.32338 C -0.44341 0.31204 -0.45157 0.30116 -0.45955 0.30116 C -0.46337 0.30116 -0.47518 0.31204 -0.47518 0.32338 C -0.47518 0.31759 -0.47934 0.31204 -0.48316 0.31204 C -0.48316 0.31065 -0.49167 0.31759 -0.49167 0.32338 C -0.49167 0.32014 -0.49167 0.31759 -0.49601 0.31759 C -0.49601 0.31921 -0.50035 0.3206 -0.50035 0.32338 C -0.50035 0.32176 -0.50035 0.32014 -0.50035 0.31921 C -0.504 0.31921 -0.504 0.3206 -0.504 0.32199 C -0.50834 0.32199 -0.50834 0.3206 -0.50834 0.31921 C -0.51181 0.31921 -0.51181 0.3206 -0.51181 0.32199 E">
                                      <p:cBhvr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162864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333399"/>
                </a:solidFill>
                <a:latin typeface="Georgia"/>
              </a:rPr>
              <a:t>pr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24360" y="2205000"/>
            <a:ext cx="183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3213000"/>
            <a:ext cx="128088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75120" y="2314440"/>
            <a:ext cx="218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ff0066"/>
                </a:solidFill>
                <a:latin typeface="Berlin Sans FB Demi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708280"/>
            <a:ext cx="261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600" spc="-1" strike="noStrike">
                <a:solidFill>
                  <a:srgbClr val="000000"/>
                </a:solidFill>
                <a:latin typeface="Berlin Sans FB Demi"/>
              </a:rPr>
              <a:t>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4149720"/>
            <a:ext cx="196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>
                <a:solidFill>
                  <a:srgbClr val="000000"/>
                </a:solidFill>
                <a:latin typeface="Berlin Sans FB Demi"/>
              </a:rPr>
              <a:t>play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00720" y="3789360"/>
            <a:ext cx="13669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20000" y="551664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Berlin Sans FB Demi"/>
              </a:rPr>
              <a:t>Ping p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67480" y="5373720"/>
            <a:ext cx="1460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877080" y="765000"/>
            <a:ext cx="144000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0880" y="9907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-685800"/>
            <a:ext cx="2209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lackadder ITC"/>
              </a:rPr>
              <a:t>The Pret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438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Pengu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9907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373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ench Script MT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480060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gi"/>
              </a:rPr>
              <a:t>Ping P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66880" y="2057400"/>
            <a:ext cx="3124440" cy="3429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3880" y="6172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Georgia"/>
              </a:rPr>
              <a:t>BY M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45720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lackadder ITC"/>
              </a:rPr>
              <a:t>Po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12952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dwardian Script ITC"/>
              </a:rPr>
              <a:t>P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90920" y="21337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ai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32004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pperplate Gothic Bold"/>
              </a:rPr>
              <a:t>The Pre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4197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934920"/>
            <a:ext cx="2666880" cy="16941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48006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y  A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22:06:59Z</dcterms:created>
  <dc:creator>Ministry of Education</dc:creator>
  <dc:description/>
  <dc:language>en-US</dc:language>
  <cp:lastModifiedBy>Office</cp:lastModifiedBy>
  <dcterms:modified xsi:type="dcterms:W3CDTF">2010-09-16T02:24:04Z</dcterms:modified>
  <cp:revision>4</cp:revision>
  <dc:subject/>
  <dc:title>Slide 1</dc:title>
</cp:coreProperties>
</file>